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211AC-AFC3-4525-9BFD-BFDD16F5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E53F0-961C-4A2B-BFB8-E3626B0A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5CBB9-B509-41AF-8CEA-64FF8D93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84077-193E-4DEC-92C5-DEEF0AEA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DC8F-5C0D-4E3A-973F-E3C89E80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1902-D4C9-4524-A2DA-3496F73D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538B-FA0F-48A4-97F7-A8580764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966E-C8EE-4CED-A15E-E465E08D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FD84-F558-4B37-B9EA-DA46BCD1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10C7-1514-4008-9CE9-7B79FBF6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280E-8C0B-4E05-BE76-30DFDE80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87D4E-A48E-476F-A5EF-90055023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DA40-4893-4EDE-8CD2-1EB7E09E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BA9C-8703-4CE2-B674-A30877C7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0E47-B9F9-4D99-B0F8-1855A1F9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1264-B170-4F44-AD59-E14EA9D3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F4C2-204A-478B-90CF-2FFF4E82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2DA2A-8A4B-42E0-B755-CCB12447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A19C7-7FBA-4A91-A964-6D3E661B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D260B-7D78-4C7E-AD6E-D42EEB40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FA3E8-FF6C-4E69-AFD1-A176D382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BBEF3-0FEE-4135-A6DD-8D7F1C0C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86CA7-3D8E-4393-984F-9B5B1981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77CBE-19F1-4F89-87AA-A4A213B8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2902-4008-4CC7-801F-BC59CD00A1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A48B-6946-4E78-BB4C-EAB87AD81E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ynamic Voltage Scaling Using Both Headers and Footer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yle Craig and Roy Matthe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E 63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it Body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ity Study of DVS with Headers and Foo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offs for using both headers and footers for leakage control (similar to MTCM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DVS system trades area for power savings and designing for headers and footers created additional complex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uch a system would allow for more knobs, to give designers more options when weighing power, delay, and area consid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research has addressed the power savings method known as Dynamic Voltage Scaling (DVS) to a system and attempt to apply the use of both headers and footers in the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ower design is a crucial area of VLSI research and quadratic power savings can be achieved by voltage reduction, using the following formula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y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aC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S allows us to take advantage of this power sav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performed simulations using a DVS system of headers and footers on a 32-bit Kogge-Stone Adder using the 65nm TT P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06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tage Sc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09680" y="1371600"/>
          <a:ext cx="5105520" cy="424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71600"/>
                    <a:ext cx="5105520" cy="42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581280" y="3809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38862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809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38862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7150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lationship between power and delay is shown above.  Tradeoffs must be considered when implementing a DV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der and Footer Sizing for Del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648320" cy="2789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3735360"/>
            <a:ext cx="4648320" cy="3122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066680" y="25146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24382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5146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4382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50292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4952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1206360"/>
            <a:ext cx="3962160" cy="41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ng power gates to a system will cause an increase in del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s and footers must be sized appropriately to achieve an established metr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see using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D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a 50% decrease in header width, a 1.1% delay increase and 40% power re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ly, using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S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50% decrease in footer width yields a 1.5% increase in delay and 13% reduction in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der and Footer Sizing for Del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343400" y="914400"/>
            <a:ext cx="4800600" cy="287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343400" y="3757680"/>
            <a:ext cx="4800600" cy="3100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562720" y="25146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24382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54864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54100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2438280"/>
            <a:ext cx="3962160" cy="25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ng header sizing for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D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st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D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ws that larger headers are required to achieve a similar delay metr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before, if we use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D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reduce width by 50%, the delay increases by 2.1% and the power decreases by 4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Rail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038480"/>
            <a:ext cx="82296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ormalized delay can be seen here against total power for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time and width combination meeting our delay constraint of 10% is highligh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lobal case without headers showed a power of 2.71mW, so every case here saves som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total power is calculated here as the sum of the rail recovery power and the power for the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295280"/>
          <a:ext cx="8229600" cy="2579760"/>
        </p:xfrm>
        <a:graphic>
          <a:graphicData uri="http://schemas.openxmlformats.org/drawingml/2006/table">
            <a:tbl>
              <a:tblPr/>
              <a:tblGrid>
                <a:gridCol w="1463760"/>
                <a:gridCol w="950760"/>
                <a:gridCol w="951120"/>
                <a:gridCol w="1001520"/>
                <a:gridCol w="1295280"/>
                <a:gridCol w="843120"/>
                <a:gridCol w="838080"/>
                <a:gridCol w="885960"/>
              </a:tblGrid>
              <a:tr h="3070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er Normalized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er Total Power (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/Delta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(4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8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 (1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/Delta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(4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8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 (1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Rail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133720"/>
            <a:ext cx="8229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er rail recovery can be seen here as compared to header rail reco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ers require a much smaller area to achieve the same delay penalty, which can be leveraged when designing DVS circuits, though power savings is less than for the header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80880" y="3657600"/>
          <a:ext cx="8458200" cy="2187720"/>
        </p:xfrm>
        <a:graphic>
          <a:graphicData uri="http://schemas.openxmlformats.org/drawingml/2006/table">
            <a:tbl>
              <a:tblPr/>
              <a:tblGrid>
                <a:gridCol w="1506600"/>
                <a:gridCol w="976320"/>
                <a:gridCol w="978120"/>
                <a:gridCol w="1029960"/>
                <a:gridCol w="1327320"/>
                <a:gridCol w="865080"/>
                <a:gridCol w="863640"/>
                <a:gridCol w="911160"/>
              </a:tblGrid>
              <a:tr h="31284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er Normalized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oter Normalized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/Delta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(4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8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 (1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/Delta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(4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88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 (12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ing Energy Over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191120" y="3429000"/>
          <a:ext cx="4647240" cy="3001320"/>
        </p:xfrm>
        <a:graphic>
          <a:graphicData uri="http://schemas.openxmlformats.org/drawingml/2006/table">
            <a:tbl>
              <a:tblPr/>
              <a:tblGrid>
                <a:gridCol w="1274400"/>
                <a:gridCol w="1699560"/>
                <a:gridCol w="1673280"/>
              </a:tblGrid>
              <a:tr h="60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ay (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er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304920" y="1447920"/>
            <a:ext cx="380988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 energy overhead is very large in this case of an idle Kogge-Stone ad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ust be taken into account when switching from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D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D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zing as a Kn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352680" y="1332000"/>
          <a:ext cx="5791320" cy="277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332000"/>
                    <a:ext cx="579132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352680" y="4084560"/>
          <a:ext cx="5791320" cy="2773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4084560"/>
                    <a:ext cx="579132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648320" y="29718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22096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29718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22096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54864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47242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Fo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2286000"/>
            <a:ext cx="30481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ng the power consumption of a system only using headers versus only using footers shows some interesting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different slopes can be leveraged as separate knobs to achieve greater control over power and wid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6:14:30Z</dcterms:created>
  <dc:creator>Roy IV</dc:creator>
  <dc:description/>
  <dc:language>en-US</dc:language>
  <cp:lastModifiedBy>Roy Matthews</cp:lastModifiedBy>
  <dcterms:modified xsi:type="dcterms:W3CDTF">2008-12-02T17:53:4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